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95F2-B679-4D28-839B-19B4AB952F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14AB-FEDB-48B8-B47C-1D6D3E27F2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D12-ECE6-43D4-8B37-B712EA23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34A0-50E7-44AC-BC10-5F6D9BC1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335-AA6A-4248-93D1-5457233E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62AB-0C78-446C-919E-64972C54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109-A46B-4A1C-88FD-23028572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B14-6CB2-4BA9-90B4-E9CBCB8E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D32-4C85-482D-A286-298D784A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8D7-0451-4A16-8610-2AAC6184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2A31-C26D-45BC-BB24-24EB9C39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8F7-E105-42D8-B67F-C31421D9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7EC-1B6C-43A3-B1F2-42D5AD7E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6FA0-6432-4FAD-8397-E2077B11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737E-F9C0-46AB-9EF9-90EAC17017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en.wikipedia.org/wiki/File:Mattapoisettseal.gif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bp0.blogger.com/_uQR5uTTeFlc/R1ZE1Bv0yaI/AAAAAAAAAQ8/nupvTCHffrs/s400/hardwick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840" y="2500200"/>
            <a:ext cx="6215040" cy="110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Calibri"/>
              </a:rPr>
              <a:t>COMMANDER LOW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4"/>
          <p:cNvCxnSpPr/>
          <p:nvPr/>
        </p:nvCxnSpPr>
        <p:spPr>
          <a:xfrm flipH="1">
            <a:off x="2571480" y="3713760"/>
            <a:ext cx="107208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TextBox 5"/>
          <p:cNvSpPr/>
          <p:nvPr/>
        </p:nvSpPr>
        <p:spPr>
          <a:xfrm>
            <a:off x="571680" y="4000680"/>
            <a:ext cx="285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tatus im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uthority 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ilitary – discip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ersonality traits sugges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trol, forc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285840" y="4287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00000"/>
                </a:solidFill>
                <a:latin typeface="Calibri"/>
              </a:rPr>
              <a:t>What does the title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11"/>
          <p:cNvCxnSpPr/>
          <p:nvPr/>
        </p:nvCxnSpPr>
        <p:spPr>
          <a:xfrm flipV="1">
            <a:off x="6000480" y="1643040"/>
            <a:ext cx="78660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" name="TextBox 14"/>
          <p:cNvSpPr/>
          <p:nvPr/>
        </p:nvSpPr>
        <p:spPr>
          <a:xfrm>
            <a:off x="5143680" y="3571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ersonal context  expl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elf-reflexive perhaps ?  – exploring the constructs of his own persona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www.stanford.edu/group/auden/cgi-bin/auden/media/rtsLowellIII_abt1920.jpg"/>
          <p:cNvPicPr/>
          <p:nvPr/>
        </p:nvPicPr>
        <p:blipFill>
          <a:blip r:embed="rId1"/>
          <a:stretch/>
        </p:blipFill>
        <p:spPr>
          <a:xfrm>
            <a:off x="5143680" y="3429000"/>
            <a:ext cx="19922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Forming an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re is the sati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does he critici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y the allusions to Fra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would you describe Lowell’s parent’s marri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y do you think Lowell is ambival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do you think the title means 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7855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re were no</a:t>
            </a:r>
            <a:r>
              <a:rPr b="1" lang="en-AU" sz="2800" spc="-1" strike="noStrike">
                <a:solidFill>
                  <a:srgbClr val="ff0000"/>
                </a:solidFill>
                <a:latin typeface="Calibri"/>
              </a:rPr>
              <a:t> undesirables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r girls in my se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6760" y="1785960"/>
            <a:ext cx="72867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en I was a boy at Mattapoisett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nly </a:t>
            </a:r>
            <a:r>
              <a:rPr b="1" lang="en-AU" sz="2800" spc="-1" strike="noStrike">
                <a:solidFill>
                  <a:srgbClr val="ff0000"/>
                </a:solidFill>
                <a:latin typeface="Calibri"/>
              </a:rPr>
              <a:t>Mother,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till her Father’s daugh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r voice was still electr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ith a hysterical, unmarried panic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en she read to me from the Napoleon boo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mattapoisett.net/Pages/MattapoisettMA_WebDocs/00C6DB18-000F8513.0/sailboatsunset3.jpg"/>
          <p:cNvPicPr/>
          <p:nvPr/>
        </p:nvPicPr>
        <p:blipFill>
          <a:blip r:embed="rId1"/>
          <a:stretch/>
        </p:blipFill>
        <p:spPr>
          <a:xfrm>
            <a:off x="6357960" y="2071800"/>
            <a:ext cx="2643120" cy="176184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15"/>
          <p:cNvCxnSpPr/>
          <p:nvPr/>
        </p:nvCxnSpPr>
        <p:spPr>
          <a:xfrm>
            <a:off x="5500800" y="2142720"/>
            <a:ext cx="7149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Straight Connector 17"/>
          <p:cNvSpPr/>
          <p:nvPr/>
        </p:nvSpPr>
        <p:spPr>
          <a:xfrm flipH="1">
            <a:off x="1999800" y="1714680"/>
            <a:ext cx="107172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http://upload.wikimedia.org/wikipedia/commons/b/be/Mattapoisett_ma_highlight.png"/>
          <p:cNvPicPr/>
          <p:nvPr/>
        </p:nvPicPr>
        <p:blipFill>
          <a:blip r:embed="rId2"/>
          <a:stretch/>
        </p:blipFill>
        <p:spPr>
          <a:xfrm>
            <a:off x="3786120" y="4714920"/>
            <a:ext cx="4002120" cy="1866960"/>
          </a:xfrm>
          <a:prstGeom prst="rect">
            <a:avLst/>
          </a:prstGeom>
          <a:ln w="0">
            <a:noFill/>
          </a:ln>
        </p:spPr>
      </p:pic>
      <p:cxnSp>
        <p:nvCxnSpPr>
          <p:cNvPr id="61" name="Straight Arrow Connector 22"/>
          <p:cNvCxnSpPr/>
          <p:nvPr/>
        </p:nvCxnSpPr>
        <p:spPr>
          <a:xfrm>
            <a:off x="4786200" y="2214720"/>
            <a:ext cx="1929600" cy="30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2" name="Picture 10" descr="http://upload.wikimedia.org/wikipedia/en/thumb/5/55/Mattapoisettseal.gif/100px-Mattapoisettseal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5120" y="357120"/>
            <a:ext cx="1381320" cy="1298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5880" y="4857840"/>
            <a:ext cx="2428920" cy="1554120"/>
          </a:xfrm>
          <a:prstGeom prst="rect">
            <a:avLst/>
          </a:prstGeom>
          <a:ln w="0">
            <a:noFill/>
          </a:ln>
        </p:spPr>
      </p:pic>
      <p:cxnSp>
        <p:nvCxnSpPr>
          <p:cNvPr id="64" name="Straight Arrow Connector 27"/>
          <p:cNvCxnSpPr/>
          <p:nvPr/>
        </p:nvCxnSpPr>
        <p:spPr>
          <a:xfrm>
            <a:off x="1856160" y="2714760"/>
            <a:ext cx="500760" cy="207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TextBox 28"/>
          <p:cNvSpPr/>
          <p:nvPr/>
        </p:nvSpPr>
        <p:spPr>
          <a:xfrm>
            <a:off x="857160" y="35712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Calibri"/>
              </a:rPr>
              <a:t>Unflattering image of mother opens po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30"/>
          <p:cNvCxnSpPr>
            <a:stCxn id="65" idx="2"/>
          </p:cNvCxnSpPr>
          <p:nvPr/>
        </p:nvCxnSpPr>
        <p:spPr>
          <a:xfrm flipH="1">
            <a:off x="3927240" y="819000"/>
            <a:ext cx="2160" cy="3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56760" y="500040"/>
            <a:ext cx="8115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Long-nosed Marie Loui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apsburg in the frontispie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ad a downright Boston bashfulnes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ere she grovelled to Bonaparte, who scratched his navel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bolted his food – just my seven years tall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I, bristling and manic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kulked in the attic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got two hundred French generals by nam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rom A to V – from Augereau to Vandam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 used to </a:t>
            </a: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dope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myself asleep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naming those unpronounceables like </a:t>
            </a: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sheep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http://www.fayette.k12.in.us/cmslmc/classproj/flex/france-french-flag-thumb.jpg"/>
          <p:cNvPicPr/>
          <p:nvPr/>
        </p:nvPicPr>
        <p:blipFill>
          <a:blip r:embed="rId1"/>
          <a:stretch/>
        </p:blipFill>
        <p:spPr>
          <a:xfrm>
            <a:off x="6357960" y="2428920"/>
            <a:ext cx="2571840" cy="405756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5"/>
          <p:cNvCxnSpPr/>
          <p:nvPr/>
        </p:nvCxnSpPr>
        <p:spPr>
          <a:xfrm flipV="1">
            <a:off x="4786200" y="856440"/>
            <a:ext cx="157248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6"/>
          <p:cNvSpPr/>
          <p:nvPr/>
        </p:nvSpPr>
        <p:spPr>
          <a:xfrm>
            <a:off x="6572160" y="4287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y the French refer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8"/>
          <p:cNvCxnSpPr/>
          <p:nvPr/>
        </p:nvCxnSpPr>
        <p:spPr>
          <a:xfrm flipH="1">
            <a:off x="4642560" y="5286240"/>
            <a:ext cx="7153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xtBox 9"/>
          <p:cNvSpPr/>
          <p:nvPr/>
        </p:nvSpPr>
        <p:spPr>
          <a:xfrm>
            <a:off x="1214280" y="57150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at does this suggest about his charac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11"/>
          <p:cNvCxnSpPr/>
          <p:nvPr/>
        </p:nvCxnSpPr>
        <p:spPr>
          <a:xfrm>
            <a:off x="2070720" y="4857480"/>
            <a:ext cx="28620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785520"/>
            <a:ext cx="77580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ving a naval </a:t>
            </a: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offic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or my Father was nothing to sh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bout to the summer colony at “Matt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wasn’t at all </a:t>
            </a: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“serious,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n he showed up on the golf cours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earing a blue </a:t>
            </a: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serge jacket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d numbly c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white duck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’d bou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t a Pearl Harbour commissariat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4"/>
          <p:cNvCxnSpPr/>
          <p:nvPr/>
        </p:nvCxnSpPr>
        <p:spPr>
          <a:xfrm>
            <a:off x="4714920" y="2857680"/>
            <a:ext cx="9295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TextBox 5"/>
          <p:cNvSpPr/>
          <p:nvPr/>
        </p:nvSpPr>
        <p:spPr>
          <a:xfrm>
            <a:off x="5786280" y="271476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How is ‘serious’ us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7"/>
          <p:cNvCxnSpPr/>
          <p:nvPr/>
        </p:nvCxnSpPr>
        <p:spPr>
          <a:xfrm>
            <a:off x="4428720" y="1071720"/>
            <a:ext cx="786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extBox 8"/>
          <p:cNvSpPr/>
          <p:nvPr/>
        </p:nvSpPr>
        <p:spPr>
          <a:xfrm>
            <a:off x="5643720" y="357120"/>
            <a:ext cx="32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y do you think he does not state his rank even though the poem is titled “Commander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http://www.paoyeomanry.co.uk/Yeomanry/LDY/ColThompson.jpg"/>
          <p:cNvPicPr/>
          <p:nvPr/>
        </p:nvPicPr>
        <p:blipFill>
          <a:blip r:embed="rId1"/>
          <a:stretch/>
        </p:blipFill>
        <p:spPr>
          <a:xfrm>
            <a:off x="6357960" y="4357800"/>
            <a:ext cx="1785960" cy="2214360"/>
          </a:xfrm>
          <a:prstGeom prst="rect">
            <a:avLst/>
          </a:prstGeom>
          <a:ln w="0">
            <a:noFill/>
          </a:ln>
        </p:spPr>
      </p:pic>
      <p:cxnSp>
        <p:nvCxnSpPr>
          <p:cNvPr id="80" name="Straight Arrow Connector 11"/>
          <p:cNvCxnSpPr/>
          <p:nvPr/>
        </p:nvCxnSpPr>
        <p:spPr>
          <a:xfrm>
            <a:off x="4642920" y="4214520"/>
            <a:ext cx="14295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81" name="Picture 7" descr="http://www.pwfdhistory.com/images/ahlco/fam_cella_family_web.jpg"/>
          <p:cNvPicPr/>
          <p:nvPr/>
        </p:nvPicPr>
        <p:blipFill>
          <a:blip r:embed="rId2"/>
          <a:stretch/>
        </p:blipFill>
        <p:spPr>
          <a:xfrm>
            <a:off x="1928880" y="5429160"/>
            <a:ext cx="3429000" cy="1276560"/>
          </a:xfrm>
          <a:prstGeom prst="rect">
            <a:avLst/>
          </a:prstGeom>
          <a:ln w="0">
            <a:noFill/>
          </a:ln>
        </p:spPr>
      </p:pic>
      <p:cxnSp>
        <p:nvCxnSpPr>
          <p:cNvPr id="82" name="Straight Arrow Connector 14"/>
          <p:cNvCxnSpPr/>
          <p:nvPr/>
        </p:nvCxnSpPr>
        <p:spPr>
          <a:xfrm>
            <a:off x="999720" y="4857480"/>
            <a:ext cx="150084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xtBox 15"/>
          <p:cNvSpPr/>
          <p:nvPr/>
        </p:nvSpPr>
        <p:spPr>
          <a:xfrm>
            <a:off x="8215200" y="357192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at does this image tell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42876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And took four shots with his putter to sink his put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Bob”, they said, “golf’s a game you really ought to know how to play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if you play at all”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y wrote him off as “naval,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aturally supposed his sport was sail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ff0000"/>
                </a:solidFill>
                <a:latin typeface="Calibri"/>
              </a:rPr>
              <a:t>Poor Father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, his training was engineering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heerful and </a:t>
            </a:r>
            <a:r>
              <a:rPr b="1" lang="en-AU" sz="2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ow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among the </a:t>
            </a:r>
            <a:r>
              <a:rPr b="1" lang="en-AU" sz="2200" spc="-1" strike="noStrike">
                <a:solidFill>
                  <a:srgbClr val="ff0000"/>
                </a:solidFill>
                <a:latin typeface="Calibri"/>
              </a:rPr>
              <a:t>seadogs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at the Sunday yacht club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he was never one of the crow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Straight Arrow Connector 4"/>
          <p:cNvCxnSpPr/>
          <p:nvPr/>
        </p:nvCxnSpPr>
        <p:spPr>
          <a:xfrm>
            <a:off x="2999880" y="3142800"/>
            <a:ext cx="7153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TextBox 5"/>
          <p:cNvSpPr/>
          <p:nvPr/>
        </p:nvSpPr>
        <p:spPr>
          <a:xfrm>
            <a:off x="4214880" y="29289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7"/>
          <p:cNvCxnSpPr/>
          <p:nvPr/>
        </p:nvCxnSpPr>
        <p:spPr>
          <a:xfrm>
            <a:off x="2214720" y="3643200"/>
            <a:ext cx="100080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TextBox 8"/>
          <p:cNvSpPr/>
          <p:nvPr/>
        </p:nvSpPr>
        <p:spPr>
          <a:xfrm>
            <a:off x="3000240" y="464328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metap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10"/>
          <p:cNvCxnSpPr/>
          <p:nvPr/>
        </p:nvCxnSpPr>
        <p:spPr>
          <a:xfrm flipV="1">
            <a:off x="1857240" y="2356560"/>
            <a:ext cx="414432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TextBox 11"/>
          <p:cNvSpPr/>
          <p:nvPr/>
        </p:nvSpPr>
        <p:spPr>
          <a:xfrm>
            <a:off x="6143760" y="21430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Patronising 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ttp://www.kitschiro.com/images/playing_golf.jpg"/>
          <p:cNvPicPr/>
          <p:nvPr/>
        </p:nvPicPr>
        <p:blipFill>
          <a:blip r:embed="rId1"/>
          <a:stretch/>
        </p:blipFill>
        <p:spPr>
          <a:xfrm>
            <a:off x="5929200" y="2793960"/>
            <a:ext cx="245772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Anchors aweigh,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Daddy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boomed in his bathtub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chors aweigh,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en Lever Brothers offered to p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im double what the Navy pa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nagged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for his dress sword with gold brai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cringed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because Mother, n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aps on all her teeth, was born an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t forty. With seamanlike celerit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ather left the Nav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deeded Mother his proper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Straight Arrow Connector 4"/>
          <p:cNvCxnSpPr/>
          <p:nvPr/>
        </p:nvCxnSpPr>
        <p:spPr>
          <a:xfrm>
            <a:off x="1213920" y="1571400"/>
            <a:ext cx="364428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TextBox 5"/>
          <p:cNvSpPr/>
          <p:nvPr/>
        </p:nvSpPr>
        <p:spPr>
          <a:xfrm>
            <a:off x="4643280" y="18572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term of endear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7"/>
          <p:cNvCxnSpPr/>
          <p:nvPr/>
        </p:nvCxnSpPr>
        <p:spPr>
          <a:xfrm>
            <a:off x="1500120" y="3500280"/>
            <a:ext cx="421560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7" name="TextBox 8"/>
          <p:cNvSpPr/>
          <p:nvPr/>
        </p:nvSpPr>
        <p:spPr>
          <a:xfrm>
            <a:off x="5643720" y="3857760"/>
            <a:ext cx="32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at does this tell you about Lowe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10"/>
          <p:cNvCxnSpPr/>
          <p:nvPr/>
        </p:nvCxnSpPr>
        <p:spPr>
          <a:xfrm>
            <a:off x="1714320" y="4000680"/>
            <a:ext cx="421488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TextBox 11"/>
          <p:cNvSpPr/>
          <p:nvPr/>
        </p:nvSpPr>
        <p:spPr>
          <a:xfrm>
            <a:off x="5857920" y="49291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y? What tension is set u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www.loveleaf.net/ts/image/778_lg.jpg"/>
          <p:cNvPicPr/>
          <p:nvPr/>
        </p:nvPicPr>
        <p:blipFill>
          <a:blip r:embed="rId1"/>
          <a:stretch/>
        </p:blipFill>
        <p:spPr>
          <a:xfrm>
            <a:off x="7072200" y="428760"/>
            <a:ext cx="15145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6840" y="356760"/>
            <a:ext cx="8258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 was soon fired. Year after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 still hummed “Anchors aweigh” in the tub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enever he left a job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 bought a smarter c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ather’s last emplo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as Scudder, Stevens and Clark, Investment Advisor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imself his only cli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ile Mother dragged to bed alon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ad Menninge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nd grew more and more </a:t>
            </a:r>
            <a:r>
              <a:rPr b="1" lang="en-AU" sz="2800" spc="-1" strike="noStrike">
                <a:solidFill>
                  <a:srgbClr val="ff0000"/>
                </a:solidFill>
                <a:latin typeface="Calibri"/>
              </a:rPr>
              <a:t>suspicious,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 grew </a:t>
            </a:r>
            <a:r>
              <a:rPr b="1" lang="en-AU" sz="2800" spc="-1" strike="noStrike">
                <a:solidFill>
                  <a:srgbClr val="ff0000"/>
                </a:solidFill>
                <a:latin typeface="Calibri"/>
              </a:rPr>
              <a:t>defiant.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4"/>
          <p:cNvCxnSpPr/>
          <p:nvPr/>
        </p:nvCxnSpPr>
        <p:spPr>
          <a:xfrm>
            <a:off x="3071520" y="4785840"/>
            <a:ext cx="11437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TextBox 7"/>
          <p:cNvSpPr/>
          <p:nvPr/>
        </p:nvSpPr>
        <p:spPr>
          <a:xfrm>
            <a:off x="4429080" y="45720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psychiatr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8"/>
          <p:cNvCxnSpPr/>
          <p:nvPr/>
        </p:nvCxnSpPr>
        <p:spPr>
          <a:xfrm>
            <a:off x="3928680" y="3714840"/>
            <a:ext cx="1143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5" name="TextBox 10"/>
          <p:cNvSpPr/>
          <p:nvPr/>
        </p:nvSpPr>
        <p:spPr>
          <a:xfrm>
            <a:off x="5286240" y="3500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neffe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6500880" y="442908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tension between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28400" y="999720"/>
            <a:ext cx="67150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ight after nigh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á la clart</a:t>
            </a:r>
            <a:r>
              <a:rPr b="0" lang="en-AU" sz="3200" spc="-1" strike="noStrike">
                <a:solidFill>
                  <a:srgbClr val="000000"/>
                </a:solidFill>
                <a:latin typeface="Albertus Extra Bold"/>
              </a:rPr>
              <a:t>é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lang="en-AU" sz="3200" spc="-1" strike="noStrike">
                <a:solidFill>
                  <a:srgbClr val="000000"/>
                </a:solidFill>
                <a:latin typeface="Albertus Extra Bold"/>
              </a:rPr>
              <a:t>é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rte de sa lamp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</a:t>
            </a: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d his ivory Annapolis </a:t>
            </a: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de r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cross a pad of graph</a:t>
            </a: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iker </a:t>
            </a: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eculations! In three year</a:t>
            </a: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</a:t>
            </a: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quandered </a:t>
            </a: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xty thousand dolla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ttp://blogs.kansas.com/weblog/files/gambling1.jpg"/>
          <p:cNvPicPr/>
          <p:nvPr/>
        </p:nvPicPr>
        <p:blipFill>
          <a:blip r:embed="rId1"/>
          <a:stretch/>
        </p:blipFill>
        <p:spPr>
          <a:xfrm>
            <a:off x="3286080" y="4714920"/>
            <a:ext cx="1849320" cy="1843200"/>
          </a:xfrm>
          <a:prstGeom prst="rect">
            <a:avLst/>
          </a:prstGeom>
          <a:ln w="0">
            <a:noFill/>
          </a:ln>
        </p:spPr>
      </p:pic>
      <p:cxnSp>
        <p:nvCxnSpPr>
          <p:cNvPr id="109" name="Straight Arrow Connector 5"/>
          <p:cNvCxnSpPr/>
          <p:nvPr/>
        </p:nvCxnSpPr>
        <p:spPr>
          <a:xfrm>
            <a:off x="5714640" y="28576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TextBox 8"/>
          <p:cNvSpPr/>
          <p:nvPr/>
        </p:nvSpPr>
        <p:spPr>
          <a:xfrm>
            <a:off x="7215120" y="26431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sibi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7"/>
          <p:cNvCxnSpPr/>
          <p:nvPr/>
        </p:nvCxnSpPr>
        <p:spPr>
          <a:xfrm flipV="1">
            <a:off x="4071600" y="928800"/>
            <a:ext cx="8578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9"/>
          <p:cNvSpPr/>
          <p:nvPr/>
        </p:nvSpPr>
        <p:spPr>
          <a:xfrm>
            <a:off x="4429080" y="21420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Loosely translated - has deserted the brightness of the la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6840" y="356760"/>
            <a:ext cx="7186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Smiling on all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ather was once successful enough to be l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the mob of ruling-class Bostoni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s early as </a:t>
            </a: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1928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e owned a house converted to oil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redecorated by th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f St. Mark’s School...Its main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as a drawing room, “longitudinal as Versailles”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ts ceiling, roughened with oatmeal, was blue as the s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o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nineteen, the </a:t>
            </a: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youngest ensign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his clas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e was “the old man” of a gunboat on the Yangtz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3"/>
          <p:cNvCxnSpPr/>
          <p:nvPr/>
        </p:nvCxnSpPr>
        <p:spPr>
          <a:xfrm>
            <a:off x="2357280" y="571680"/>
            <a:ext cx="12153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5"/>
          <p:cNvCxnSpPr/>
          <p:nvPr/>
        </p:nvCxnSpPr>
        <p:spPr>
          <a:xfrm>
            <a:off x="2642760" y="1928880"/>
            <a:ext cx="715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8"/>
          <p:cNvCxnSpPr/>
          <p:nvPr/>
        </p:nvCxnSpPr>
        <p:spPr>
          <a:xfrm flipV="1">
            <a:off x="3142800" y="4500360"/>
            <a:ext cx="71532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TextBox 9"/>
          <p:cNvSpPr/>
          <p:nvPr/>
        </p:nvSpPr>
        <p:spPr>
          <a:xfrm>
            <a:off x="3857760" y="4287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Po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5143680" y="16430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nterwar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3929040" y="428616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hero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ttp://indobestseller.files.wordpress.com/2009/11/sungai-yangtze.jpg"/>
          <p:cNvPicPr/>
          <p:nvPr/>
        </p:nvPicPr>
        <p:blipFill>
          <a:blip r:embed="rId1"/>
          <a:stretch/>
        </p:blipFill>
        <p:spPr>
          <a:xfrm>
            <a:off x="7072200" y="4286160"/>
            <a:ext cx="1859040" cy="2428920"/>
          </a:xfrm>
          <a:prstGeom prst="rect">
            <a:avLst/>
          </a:prstGeom>
          <a:ln w="0">
            <a:noFill/>
          </a:ln>
        </p:spPr>
      </p:pic>
      <p:cxnSp>
        <p:nvCxnSpPr>
          <p:cNvPr id="121" name="Straight Arrow Connector 14"/>
          <p:cNvCxnSpPr/>
          <p:nvPr/>
        </p:nvCxnSpPr>
        <p:spPr>
          <a:xfrm>
            <a:off x="6000480" y="5643720"/>
            <a:ext cx="857880" cy="143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2" name="TextBox 15"/>
          <p:cNvSpPr/>
          <p:nvPr/>
        </p:nvSpPr>
        <p:spPr>
          <a:xfrm>
            <a:off x="5357880" y="61437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Chines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22:44:32Z</dcterms:created>
  <dc:creator>user</dc:creator>
  <dc:description/>
  <dc:language>en-US</dc:language>
  <cp:lastModifiedBy>user</cp:lastModifiedBy>
  <dcterms:modified xsi:type="dcterms:W3CDTF">2010-06-02T08:57:02Z</dcterms:modified>
  <cp:revision>33</cp:revision>
  <dc:subject/>
  <dc:title>COMMANDER LOWELL</dc:title>
</cp:coreProperties>
</file>